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D1F-800F-48DF-B6C5-23F922CDF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B20-4730-4C46-866E-775D96613E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030B-205F-4F34-A9F3-12A1EC579E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7AB-FDF6-4A6A-B9B7-91B8511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1FC-ED47-4056-8801-004736C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4C3-DDD0-466A-807D-56EF0FE0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C59-A663-4067-8254-3D94526F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4EFA-5A34-4A8A-B0F1-8B172DCE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A6B2-63FD-413F-B870-751B7361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EB72-AAF7-4833-BED2-AFF02AC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574F-33CC-4A7D-BB3A-78532B4C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9B6-17A1-4DCE-9DF7-A83BA7D4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D0B1-3C64-432C-8C0A-9DBD87E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7FBD-AD5D-4BC0-A499-FFB8FA84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97F-2D82-49D7-9F3C-5D34ED1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C9D-FC8D-4488-A822-FBE71F6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996-78EC-490A-9190-F782F21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96D-5DE3-473D-A3EA-23A227B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00E9-9DC6-4009-8B59-D43725E3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CE1D-6BEA-4343-ACDD-5DA26E9E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FB9-F1CB-4E1A-81BD-DA788E8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FE0-5E6E-434D-93CD-3A238AC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46B-504D-4561-908D-0A99AF4D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691-B23E-47A7-9BFA-6BE01BA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E5E-2662-4C37-BEC1-DC1E1B1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8C1-A42E-4A20-BF8E-66924E7C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C8C-2BD1-4025-94E9-7B97AF8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99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428a8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CF3D-DCEA-4CD0-A7FF-C0790BE02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428a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2e5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2e5d5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99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428a8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7BF-EE17-40DA-A331-F3E58C9895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ffffff"/>
                </a:solidFill>
                <a:latin typeface="Arial Black"/>
              </a:rPr>
              <a:t>Тема: Рахунки бухгалтерського обліку</a:t>
            </a:r>
            <a:endParaRPr b="0" lang="en-US" sz="3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ffffff"/>
                </a:solidFill>
                <a:latin typeface="Arial"/>
              </a:rPr>
              <a:t>1.Бухгалтерські рахунк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285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ffffff"/>
                </a:solidFill>
                <a:latin typeface="Arial"/>
              </a:rPr>
              <a:t>2.Види рахунків відносно балансу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4356000" y="1905120"/>
            <a:ext cx="27212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Активні рахунки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152280" y="1450800"/>
            <a:ext cx="876636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Активний рахунок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-т                                  К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чатковий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+                            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ільшення               Зменшення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рот+                    Оборот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нце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838080" y="42670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762120" y="228600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914400" y="45720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514600" y="228600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300" spc="-1" strike="noStrike">
                <a:solidFill>
                  <a:srgbClr val="ffffff"/>
                </a:solidFill>
                <a:latin typeface="Arial Black"/>
              </a:rPr>
              <a:t>Пасивні рахунки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Схема 1" descr=""/>
          <p:cNvPicPr/>
          <p:nvPr/>
        </p:nvPicPr>
        <p:blipFill>
          <a:blip r:embed="rId1"/>
          <a:stretch/>
        </p:blipFill>
        <p:spPr>
          <a:xfrm>
            <a:off x="762120" y="1901880"/>
            <a:ext cx="7924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Пасивний рахунок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-т                                  К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чатковий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                             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меншення            Збільше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рот -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Оборот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нце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838080" y="228600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438280" y="22860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838080" y="3962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838080" y="42670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Активно-пасивні рахунки </a:t>
            </a:r>
            <a:r>
              <a:rPr b="0" i="1" lang="uk-UA" sz="33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Схема 2" descr=""/>
          <p:cNvPicPr/>
          <p:nvPr/>
        </p:nvPicPr>
        <p:blipFill>
          <a:blip r:embed="rId1"/>
          <a:stretch/>
        </p:blipFill>
        <p:spPr>
          <a:xfrm>
            <a:off x="231840" y="1749600"/>
            <a:ext cx="87598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До </a:t>
            </a:r>
            <a:r>
              <a:rPr b="0" i="1" lang="uk-UA" sz="3600" spc="-1" strike="noStrike">
                <a:solidFill>
                  <a:srgbClr val="ffffff"/>
                </a:solidFill>
                <a:latin typeface="Arial Black"/>
              </a:rPr>
              <a:t>позабалансових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262080" y="1822320"/>
            <a:ext cx="8431200" cy="455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ffffff"/>
                </a:solidFill>
                <a:latin typeface="Arial Black"/>
              </a:rPr>
              <a:t>Рахунок –</a:t>
            </a: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Схема 1" descr=""/>
          <p:cNvPicPr/>
          <p:nvPr/>
        </p:nvPicPr>
        <p:blipFill>
          <a:blip r:embed="rId1"/>
          <a:stretch/>
        </p:blipFill>
        <p:spPr>
          <a:xfrm>
            <a:off x="755640" y="1908000"/>
            <a:ext cx="7711920" cy="4035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66960" cy="24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хема 1" descr=""/>
          <p:cNvPicPr/>
          <p:nvPr/>
        </p:nvPicPr>
        <p:blipFill>
          <a:blip r:embed="rId1"/>
          <a:stretch/>
        </p:blipFill>
        <p:spPr>
          <a:xfrm>
            <a:off x="762120" y="993600"/>
            <a:ext cx="8003880" cy="5334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28321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1" descr=""/>
          <p:cNvPicPr/>
          <p:nvPr/>
        </p:nvPicPr>
        <p:blipFill>
          <a:blip r:embed="rId1"/>
          <a:stretch/>
        </p:blipFill>
        <p:spPr>
          <a:xfrm>
            <a:off x="755640" y="450720"/>
            <a:ext cx="7711920" cy="1390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Рахунок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(назва рахунка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Дебет                                            Кредит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06668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838080" y="36576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343400" y="3657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хема 1" descr=""/>
          <p:cNvPicPr/>
          <p:nvPr/>
        </p:nvPicPr>
        <p:blipFill>
          <a:blip r:embed="rId1"/>
          <a:stretch/>
        </p:blipFill>
        <p:spPr>
          <a:xfrm>
            <a:off x="731880" y="304920"/>
            <a:ext cx="7796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хема 1" descr=""/>
          <p:cNvPicPr/>
          <p:nvPr/>
        </p:nvPicPr>
        <p:blipFill>
          <a:blip r:embed="rId1"/>
          <a:stretch/>
        </p:blipFill>
        <p:spPr>
          <a:xfrm>
            <a:off x="755640" y="1889280"/>
            <a:ext cx="7718400" cy="4073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tretch/>
        </p:blipFill>
        <p:spPr>
          <a:xfrm>
            <a:off x="5218200" y="19080"/>
            <a:ext cx="2925720" cy="184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Наприклад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Схема 1" descr=""/>
          <p:cNvPicPr/>
          <p:nvPr/>
        </p:nvPicPr>
        <p:blipFill>
          <a:blip r:embed="rId1"/>
          <a:stretch/>
        </p:blipFill>
        <p:spPr>
          <a:xfrm>
            <a:off x="755640" y="2517840"/>
            <a:ext cx="7711920" cy="3425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78092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31. “ Рахунки в банку “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-т                                  К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чатковий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6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1.250000               4.2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2.50000                 5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3.1500                   6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рот 301500       Оборот 43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нце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 858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838080" y="42670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762120" y="228600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914400" y="45720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666880" y="228600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5486400" y="2219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Схема 1" descr=""/>
          <p:cNvPicPr/>
          <p:nvPr/>
        </p:nvPicPr>
        <p:blipFill>
          <a:blip r:embed="rId1"/>
          <a:stretch/>
        </p:blipFill>
        <p:spPr>
          <a:xfrm>
            <a:off x="755640" y="341280"/>
            <a:ext cx="77119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123" name="Diagram 5"/>
          <p:cNvGrpSpPr/>
          <p:nvPr/>
        </p:nvGrpSpPr>
        <p:grpSpPr>
          <a:xfrm>
            <a:off x="427320" y="3133800"/>
            <a:ext cx="7831440" cy="2952000"/>
            <a:chOff x="427320" y="3133800"/>
            <a:chExt cx="7831440" cy="2952000"/>
          </a:xfrm>
        </p:grpSpPr>
        <p:sp>
          <p:nvSpPr>
            <p:cNvPr id="124" name="_s1028"/>
            <p:cNvSpPr/>
            <p:nvPr/>
          </p:nvSpPr>
          <p:spPr>
            <a:xfrm>
              <a:off x="2773440" y="3553200"/>
              <a:ext cx="3142800" cy="1200960"/>
            </a:xfrm>
            <a:prstGeom prst="ellipse">
              <a:avLst/>
            </a:prstGeom>
            <a:solidFill>
              <a:srgbClr val="d6e0e0">
                <a:alpha val="50000"/>
              </a:srgbClr>
            </a:solidFill>
            <a:ln w="468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29"/>
            <p:cNvSpPr/>
            <p:nvPr/>
          </p:nvSpPr>
          <p:spPr>
            <a:xfrm>
              <a:off x="3926880" y="3133800"/>
              <a:ext cx="83592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асивн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030"/>
            <p:cNvSpPr/>
            <p:nvPr/>
          </p:nvSpPr>
          <p:spPr>
            <a:xfrm>
              <a:off x="3969360" y="4010040"/>
              <a:ext cx="3142800" cy="120096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31"/>
            <p:cNvSpPr/>
            <p:nvPr/>
          </p:nvSpPr>
          <p:spPr>
            <a:xfrm>
              <a:off x="7422840" y="4460400"/>
              <a:ext cx="83592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о-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асивн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>
              <a:off x="2773440" y="4467240"/>
              <a:ext cx="3142800" cy="1200960"/>
            </a:xfrm>
            <a:prstGeom prst="ellipse">
              <a:avLst/>
            </a:prstGeom>
            <a:solidFill>
              <a:srgbClr val="428a8c">
                <a:alpha val="50000"/>
              </a:srgbClr>
            </a:solidFill>
            <a:ln w="468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3926880" y="5786640"/>
              <a:ext cx="83592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забалансов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1577520" y="4010040"/>
              <a:ext cx="3142800" cy="1200960"/>
            </a:xfrm>
            <a:prstGeom prst="ellipse">
              <a:avLst/>
            </a:prstGeom>
            <a:solidFill>
              <a:srgbClr val="428a8c">
                <a:alpha val="50000"/>
              </a:srgbClr>
            </a:solidFill>
            <a:ln w="468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035"/>
            <p:cNvSpPr/>
            <p:nvPr/>
          </p:nvSpPr>
          <p:spPr>
            <a:xfrm>
              <a:off x="427320" y="4460400"/>
              <a:ext cx="83592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32:33Z</dcterms:created>
  <dc:creator>one</dc:creator>
  <dc:description/>
  <dc:language>en-US</dc:language>
  <cp:lastModifiedBy>Пользователь</cp:lastModifiedBy>
  <dcterms:modified xsi:type="dcterms:W3CDTF">2021-02-10T12:35:4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